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D8F-209F-4853-8965-4D4BAE62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4E2-AFF7-4E4D-99D5-23A68A7E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025-4637-48CC-A5AE-B317DF66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BD1-84C2-4047-A89B-4307AA28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F19-CD91-43FA-8F97-FBD7FFD8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DFE2-5D43-4CDB-9E58-24EC000D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062-5C53-457E-98A3-A00B3B42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5DEF-D9F6-45A0-8F42-BC089850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D03-3BA9-41B2-9488-15CE50AA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1BE3-8F3D-4474-9D21-8CA11AA0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96CB-8FF6-422A-9CBF-46B18789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A21-A5E9-479D-B9A2-512179F4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0B90-E587-4C47-A518-22736328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e order of the plan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Andrew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n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1547640" cy="18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1513080" cy="18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1512720" cy="1804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0" y="2276640"/>
            <a:ext cx="1512720" cy="180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513080" cy="180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589880" y="2276640"/>
            <a:ext cx="1554120" cy="17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5056200"/>
            <a:ext cx="1558800" cy="1801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589880" y="5054760"/>
            <a:ext cx="1554120" cy="18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3780000" y="4076640"/>
            <a:ext cx="16412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837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6600"/>
                </a:solidFill>
                <a:latin typeface="Arial"/>
              </a:rPr>
              <a:t>Plut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99"/>
                </a:solidFill>
                <a:latin typeface="Arial"/>
              </a:rPr>
              <a:t>=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836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bbe0e3"/>
                </a:solidFill>
                <a:latin typeface="Arial"/>
              </a:rPr>
              <a:t>Mercur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860280"/>
            <a:ext cx="4402080" cy="2265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rcury is the innermost and smallest planet in the So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476280"/>
            <a:ext cx="194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m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14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18367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"/>
              </a:rPr>
              <a:t>Ven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76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=V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60280"/>
            <a:ext cx="4402080" cy="226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t is sometimes called Earth's "sister planet“ because they are simular in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503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969920" y="36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ff"/>
                </a:solidFill>
                <a:latin typeface="Arial"/>
              </a:rPr>
              <a:t>Earth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67160" y="836640"/>
            <a:ext cx="23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=ente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221000"/>
            <a:ext cx="4402080" cy="226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arth is only known planet to have an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4437000"/>
            <a:ext cx="1944720" cy="503280"/>
          </a:xfrm>
          <a:prstGeom prst="flowChartTerminator">
            <a:avLst/>
          </a:prstGeom>
          <a:solidFill>
            <a:srgbClr val="ff9900"/>
          </a:solidFill>
          <a:ln w="604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ahootz LostCity"/>
              </a:rPr>
              <a:t>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24360" y="2357280"/>
            <a:ext cx="2808360" cy="269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190800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3300"/>
                </a:solidFill>
                <a:latin typeface="Arial"/>
              </a:rPr>
              <a:t>Mar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9080" y="7365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=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920" y="4121280"/>
            <a:ext cx="4402080" cy="22651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14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9900"/>
                </a:solidFill>
                <a:latin typeface="Arial"/>
              </a:rPr>
              <a:t>Jupit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00"/>
                </a:solidFill>
                <a:latin typeface="Arial"/>
              </a:rPr>
              <a:t>=je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78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00"/>
                </a:solidFill>
                <a:latin typeface="Arial"/>
              </a:rPr>
              <a:t>Satur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00"/>
                </a:solidFill>
                <a:latin typeface="Arial"/>
              </a:rPr>
              <a:t>=si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78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=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808360" cy="2827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-19810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ccff"/>
                </a:solidFill>
                <a:latin typeface="Arial"/>
              </a:rPr>
              <a:t>Neptu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809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=no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840" y="4194000"/>
            <a:ext cx="4402080" cy="226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4:23:38Z</dcterms:created>
  <dc:creator>Admin</dc:creator>
  <dc:description/>
  <dc:language>en-US</dc:language>
  <cp:lastModifiedBy>Admin</cp:lastModifiedBy>
  <dcterms:modified xsi:type="dcterms:W3CDTF">2009-08-04T04:56:11Z</dcterms:modified>
  <cp:revision>7</cp:revision>
  <dc:subject/>
  <dc:title>The order of the planets</dc:title>
</cp:coreProperties>
</file>